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59B-7DF7-48B1-BE2A-BB765E09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6FD0-AC8B-4352-8FB9-9E05D849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2AA-FBEF-437B-9F38-C7B8EAD4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0CB-6CDB-42E9-BD12-D2405BB1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4217-283D-4201-90C3-3DD96E42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28A7-D3EE-4974-B51D-2DD154E4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5C08-10A4-4C74-8F28-DAB1C52D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0110-DEA9-448B-BF6A-C1E7B297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66A6-3499-4444-A3AD-766CADD8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45A7-E29D-40B0-87E2-4CBE5B0C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951A-5887-49F3-A4F3-BA9F5387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EBBD-07F0-4909-B3D3-CFEF41D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A45C-2070-4040-9D49-55C41676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2529-0B95-46EC-A4A4-9031EAFE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2C19-C8C8-48DB-A184-7E559FE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58B5-01F0-477E-BEB4-03C549D8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302A-98FB-4F91-890B-3B6A96C3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2BC-972B-42E1-B47B-D4E10C60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EF7-B65B-4099-AD59-D15A333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4A47-1F9A-46CF-9C86-0B07DA1D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26E-4BD1-4096-B358-E18F4E2A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7DD-7EB6-4ADC-BDDC-BFBF8B96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68E-C9BC-4568-B42F-3E4B813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38F-C599-40F1-8A20-501A35C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A927-7AFA-4809-B02A-453950F83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04D-75F0-40DF-82A3-5A58B72C0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eec94"/>
                </a:solidFill>
                <a:latin typeface="Monotype Corsiva"/>
              </a:rPr>
              <a:t>Kwas deoksyrybonukleinowy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Monotype Corsiva"/>
              </a:rPr>
              <a:t>Autor: Katarzyna Polinow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3485880" cy="95256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d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Właściwości DNA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0" lang="pl-PL" sz="3600" spc="-1" strike="noStrike">
                <a:solidFill>
                  <a:srgbClr val="feec94"/>
                </a:solidFill>
                <a:latin typeface="Monotype Corsiva"/>
              </a:rPr>
              <a:t>cząsteczka ma postać </a:t>
            </a:r>
            <a:r>
              <a:rPr b="0" lang="el-GR" sz="3600" spc="-1" strike="noStrike">
                <a:solidFill>
                  <a:srgbClr val="feec94"/>
                </a:solidFill>
                <a:latin typeface="Monotype Corsiva"/>
              </a:rPr>
              <a:t>α</a:t>
            </a:r>
            <a:r>
              <a:rPr b="0" lang="pl-PL" sz="3600" spc="-1" strike="noStrike">
                <a:solidFill>
                  <a:srgbClr val="feec94"/>
                </a:solidFill>
                <a:latin typeface="Monotype Corsiva"/>
              </a:rPr>
              <a:t>-heli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7416720" cy="331164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d"/>
    <p:sndAc>
      <p:stSnd>
        <p:snd r:embed="rId2" name="chimes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nić budują nukleotyd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Monotype Corsiva"/>
              </a:rPr>
              <a:t>Długa nić DNA powstaje dzięki: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Monotype Corsiva"/>
              </a:rPr>
              <a:t>- wiązaniom fosfodiestrowym,  tworzącym się między grupą fosforanową a deoksyrybozą sąsiedniego nukleotydu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pl-PL" sz="2600" spc="-1" strike="noStrike">
                <a:solidFill>
                  <a:srgbClr val="ffffff"/>
                </a:solidFill>
                <a:latin typeface="Monotype Corsiva"/>
              </a:rPr>
              <a:t>- wiązaniom </a:t>
            </a:r>
            <a:br>
              <a:rPr sz="2600"/>
            </a:br>
            <a:r>
              <a:rPr b="0" lang="pl-PL" sz="2600" spc="-1" strike="noStrike">
                <a:solidFill>
                  <a:srgbClr val="ffffff"/>
                </a:solidFill>
                <a:latin typeface="Monotype Corsiva"/>
              </a:rPr>
              <a:t>N-glikozydowym, tworzacym się między deoksyrybozą a zasadą azotow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4824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2268360" y="3068640"/>
            <a:ext cx="2735280" cy="792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637000"/>
            <a:ext cx="0" cy="720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6720" y="4653000"/>
            <a:ext cx="0" cy="576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276720" y="4292280"/>
            <a:ext cx="1800000" cy="57636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pull dir="ld"/>
    <p:sndAc>
      <p:stSnd>
        <p:snd r:embed="rId2" name="chimes.wav"/>
      </p:stSnd>
    </p:sndAc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►</a:t>
            </a: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 </a:t>
            </a: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jest dwuniciow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wie nici DNA spinają wiązania wodorow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Wiązania te powstają między zasadami naprzeciwległych nukleotydó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16360" y="1268280"/>
            <a:ext cx="3970440" cy="4897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00000" y="2997360"/>
            <a:ext cx="273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5280" y="2997360"/>
            <a:ext cx="1224000" cy="2087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59280" y="5084640"/>
            <a:ext cx="1225440" cy="2890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0">
    <p:pull dir="ld"/>
    <p:sndAc>
      <p:stSnd>
        <p:snd r:embed="rId2" name="chimes.wav"/>
      </p:stSnd>
    </p:sndAc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8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8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nici DNA są komplementarn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ylko określone pary nukleotydów mogą tworzyć takie wiązani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T zawsze łączy się z A dwoma wiązaniami wodorowy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G zawsze łączy się z C trzema wiązaniami wodorowym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50880" y="1628640"/>
            <a:ext cx="3054240" cy="4176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932360" y="3789360"/>
            <a:ext cx="2735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268360" y="2997360"/>
            <a:ext cx="2664000" cy="79200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76360" y="5229360"/>
            <a:ext cx="2519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484000" y="4941360"/>
            <a:ext cx="2592360" cy="2876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pull dir="ld"/>
    <p:sndAc>
      <p:stSnd>
        <p:snd r:embed="rId2" name="chimes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►</a:t>
            </a: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nici są antyrównoległ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35344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Nici komplementarne są przeciwnie spolaryzowane (ukierunkowane)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Jedna z nici ma kierunek od 3' do 5', a druga – od 5' do 3'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pull dir="ld"/>
    <p:sndAc>
      <p:stSnd>
        <p:snd r:embed="rId2" name="chimes.wav"/>
      </p:stSnd>
    </p:sndAc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onotype Corsiva"/>
              </a:rPr>
              <a:t>Rodzaje kwasów nukleinowy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700360" y="2276280"/>
            <a:ext cx="4038480" cy="2232000"/>
            <a:chOff x="2700360" y="2276280"/>
            <a:chExt cx="4038480" cy="2232000"/>
          </a:xfrm>
        </p:grpSpPr>
        <p:cxnSp>
          <p:nvCxnSpPr>
            <p:cNvPr id="125" name="_s155661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4994280" y="2708640"/>
              <a:ext cx="650160" cy="107964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8" name="_s155660"/>
            <p:cNvCxnSpPr>
              <a:stCxn id="129" idx="0"/>
              <a:endCxn id="127" idx="2"/>
            </p:cNvCxnSpPr>
            <p:nvPr/>
          </p:nvCxnSpPr>
          <p:spPr>
            <a:xfrm flipH="1" flipV="1" rot="5400000">
              <a:off x="3884760" y="2678400"/>
              <a:ext cx="650160" cy="1140480"/>
            </a:xfrm>
            <a:prstGeom prst="bentConnector3">
              <a:avLst>
                <a:gd name="adj1" fmla="val 1756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7" name="_s155656"/>
            <p:cNvSpPr/>
            <p:nvPr/>
          </p:nvSpPr>
          <p:spPr>
            <a:xfrm>
              <a:off x="3499920" y="2276280"/>
              <a:ext cx="2558880" cy="64764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33cc"/>
                  </a:solidFill>
                  <a:latin typeface="Monotype Corsiva"/>
                </a:rPr>
                <a:t>Kwasy</a:t>
              </a:r>
              <a:r>
                <a:rPr b="0" lang="en-US" sz="3600" spc="-1" strike="noStrike">
                  <a:solidFill>
                    <a:srgbClr val="ffffff"/>
                  </a:solidFill>
                  <a:latin typeface="Monotype Corsiva"/>
                </a:rPr>
                <a:t> </a:t>
              </a:r>
              <a:r>
                <a:rPr b="0" lang="en-US" sz="3600" spc="-1" strike="noStrike">
                  <a:solidFill>
                    <a:srgbClr val="0033cc"/>
                  </a:solidFill>
                  <a:latin typeface="Monotype Corsiva"/>
                </a:rPr>
                <a:t>nukleinowe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155657"/>
            <p:cNvSpPr/>
            <p:nvPr/>
          </p:nvSpPr>
          <p:spPr>
            <a:xfrm>
              <a:off x="2700360" y="3573360"/>
              <a:ext cx="1879560" cy="93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3200" spc="-1" strike="noStrike">
                  <a:solidFill>
                    <a:srgbClr val="0033cc"/>
                  </a:solidFill>
                  <a:latin typeface="Monotype Corsiva"/>
                </a:rPr>
                <a:t>deoksyrybonukleinow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155658"/>
            <p:cNvSpPr/>
            <p:nvPr/>
          </p:nvSpPr>
          <p:spPr>
            <a:xfrm>
              <a:off x="4979160" y="3573360"/>
              <a:ext cx="1759680" cy="93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cc"/>
                  </a:solidFill>
                  <a:latin typeface="Monotype Corsiva"/>
                </a:rPr>
                <a:t>rybonukleinowy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5229360"/>
            <a:ext cx="1511280" cy="133344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d"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Ważne daty z historii odkryć DN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►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W 1869 roku, Johann Friedrich Miescher, niemiecki chemik pracujący w Tybindze, odkrył substancję, którą nazwał nukleiną. Dzisiaj nosi ona nazwę kwasu deoksyrybonukleinowego, czyli DNA.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►</a:t>
            </a: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W 1953 roku na podstawie dostępnych fizycznych i chemicznych informacji dwaj młodzi naukowcy pracujący w Uniwersytecie w Cambridge w Anglii, James Watson i Francis Crick ustalili, że DNA ma strukturę podwójnej helis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020000" y="6031080"/>
            <a:ext cx="1779480" cy="598320"/>
          </a:xfrm>
          <a:prstGeom prst="rect">
            <a:avLst/>
          </a:prstGeom>
          <a:ln w="0">
            <a:noFill/>
          </a:ln>
        </p:spPr>
      </p:pic>
    </p:spTree>
  </p:cSld>
  <p:transition advTm="20000">
    <p:pull dir="ld"/>
    <p:sndAc>
      <p:stSnd>
        <p:snd r:embed="rId2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eec94"/>
                </a:solidFill>
                <a:latin typeface="Monotype Corsiva"/>
              </a:rPr>
              <a:t>Lokalizacja DNA w komórce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advTm="7000">
    <p:pull dir="ld"/>
    <p:sndAc>
      <p:stSnd>
        <p:snd r:embed="rId1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jądro komórkow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d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chloroplasty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116000" y="1600200"/>
          <a:ext cx="69850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00200"/>
                    <a:ext cx="69850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pull dir="ld"/>
    <p:sndAc>
      <p:stSnd>
        <p:snd r:embed="rId3" name="chimes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► </a:t>
            </a:r>
            <a:r>
              <a:rPr b="1" lang="pl-PL" sz="4400" spc="-1" strike="noStrike">
                <a:solidFill>
                  <a:srgbClr val="feec94"/>
                </a:solidFill>
                <a:latin typeface="Monotype Corsiva"/>
              </a:rPr>
              <a:t>mitochondri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43120" y="2276640"/>
          <a:ext cx="7456320" cy="38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276640"/>
                    <a:ext cx="7456320" cy="38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pull dir="ld"/>
    <p:sndAc>
      <p:stSnd>
        <p:snd r:embed="rId3" name="chimes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Monomery kwasów nukleinowy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Monotype Corsiva"/>
              </a:rPr>
              <a:t>Monomerem czyli podstawową jednostką strukturalną kwasu nukleinowego jest nukleotyd. Wyróżniamy pięć nukleotydów.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Monotype Corsiva"/>
              </a:rPr>
              <a:t>W kwasie DNA są cztery: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Monotype Corsiva"/>
              </a:rPr>
              <a:t>adeninowy, tyminowy, guaninowy i cytozynow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8351640" cy="2880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H="1">
            <a:off x="1547280" y="2637000"/>
            <a:ext cx="2876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16360" y="263700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2637000"/>
            <a:ext cx="503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2637000"/>
            <a:ext cx="936720" cy="86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5000">
    <p:pull dir="ld"/>
    <p:sndAc>
      <p:stSnd>
        <p:snd r:embed="rId2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Monotype Corsiva"/>
              </a:rPr>
              <a:t>Budowa nukleotyd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Każdy nukleotyd składa się z trzech elementów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a)  zasady azotowej, pochodnej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- puryn: adeniny (A), guaniny (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- pirymidyn: cytozyny (C), tyminy (T) bądź uracylu (U) w przypadku R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b) pięciowęglowego cukr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deoksyrybozy (w D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rybozy (w RN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Monotype Corsiva"/>
              </a:rPr>
              <a:t>c) reszty fosforanow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5000">
    <p:pull dir="ld"/>
    <p:sndAc>
      <p:stSnd>
        <p:snd r:embed="rId1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8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8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1:20:44Z</dcterms:created>
  <dc:creator>Administrator</dc:creator>
  <dc:description/>
  <dc:language>en-US</dc:language>
  <cp:lastModifiedBy>Administrator</cp:lastModifiedBy>
  <dcterms:modified xsi:type="dcterms:W3CDTF">2002-12-06T10:54:52Z</dcterms:modified>
  <cp:revision>19</cp:revision>
  <dc:subject/>
  <dc:title>Kwasy nukleinowe</dc:title>
</cp:coreProperties>
</file>